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media/whoosh.wav" ContentType="audio/x-wav"/>
  <Override PartName="/ppt/media/image2.png" ContentType="image/png"/>
  <Override PartName="/ppt/media/wind.wav" ContentType="audio/x-wav"/>
  <Override PartName="/ppt/media/explode.wav" ContentType="audio/x-wav"/>
  <Override PartName="/ppt/media/push.wav" ContentType="audio/x-wav"/>
  <Override PartName="/ppt/media/cashreg.wav" ContentType="audio/x-wav"/>
  <Override PartName="/ppt/media/hammer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316-7CE3-4C6C-BA75-C1860DFD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5EA-038B-44FB-B67E-47BB1860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7F8-5EBB-42A7-854A-0B8E773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B6C-D70B-4B24-8AE2-F9ECAD8F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EC55-D531-4F11-9831-45EF6D3B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6E24-9C90-485D-9AFE-43FE9699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1458-0020-4651-AF76-CBA387B6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EBF-797B-41F2-A8B2-2C71F1FD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9B89-221B-4960-8E5C-496E3BB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86A-C1F2-4E9E-A71B-787BC56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3BC9-28F7-470B-9378-93D151F9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1C5-04CD-40F5-B667-645C821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33FB-591D-4D69-93A1-BFE17FB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D5C8-74B6-4F30-B8E0-35EBE44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3E8-9361-4BC4-97D1-7F53D8B8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67B3-761C-445B-A40F-C8A8BFCD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4E1-E423-4395-91AD-10F44514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892B3-9437-4E16-9D8C-FE2C0F50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F3156-4972-4075-BA6C-66B80F2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B6ABB-B9B3-443F-9B07-EF84CA1E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EA7A4-733A-4C17-94FA-4408FE5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5C871-8E74-4219-A954-47B5CE2A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B58-E8EA-4582-BB18-F3F2446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B42AF-D46C-4460-ABFF-C67C56ED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1BB6-20D3-4C0A-9F72-4C16DE4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F2F34-9DDF-4EB0-8E4C-8C92A59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1DE09-C0C8-45B0-B747-70AD207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4F46F-05AE-4731-BE5E-7562741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33BDD-3CCE-4060-9FFD-0763156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27B12-DC8F-4376-BE81-276E3D7D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B0F8-43D7-4F00-BE2B-07616E5D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9206-9277-42B1-A305-24757D0C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53A9-A0E0-4204-A1B4-5A45A00A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196-2824-4EB3-877A-7870D0F3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17D6-F0C4-4E48-A2CC-DBF160D4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594D-D282-4C9C-ADEC-0D6BF2F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1B0A-6B0B-47DB-BD15-3554186F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A3FB-E05A-49D4-B2B4-52200D7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F6D7-9E96-4BFB-8787-10E98C3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0C9A-3BCC-4126-AE13-7A4CECE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1A68-55B6-43D0-9D23-9BF49D14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5D0E-D2B3-4DA0-8977-94A226FB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FBF4-F8A0-4A18-84F5-9D2F5594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A67BF-8C6E-4B2B-BD01-3C93274A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D7A-F295-4449-841E-4D611065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777CE-EC50-468C-9AD9-11E7412C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A5ADB-4C7E-40BC-A78C-0A81ABD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2727A-62E7-490B-B9A0-4541050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FFDB3-0232-4F06-8A7F-EF05F0B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C3DAD-B35B-489B-BA30-A02C8E2A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5DE37-2919-47A2-B0F8-F051B78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40FCF-5F53-4C32-A144-7D1EC20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E91CF-D9B2-4E13-A7AD-2FAA130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A6722-39C7-4019-BA0F-9A8637C3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C4E58-EC70-4F1D-B9AA-4EAF28F2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133-EF70-4821-9363-DCA4086A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92442-E920-47B8-A6C6-85E526A5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81A93-A34A-4DB0-987B-545EA8F9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5DAE0-CBF4-45A6-8682-880A0222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1B715-FE8A-411E-AD47-044F6D84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A1C1C-8EA3-4132-97D0-61034375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CF78B-1B34-47D8-BDE7-7E39817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E144B-648B-4257-BD32-E7B6C17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98908-583A-4B24-A355-9CA4611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BD0C4-B14E-494A-8A00-EA56627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5E5EF-BD57-4AB8-B8F9-5939D55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070-3770-4524-921F-9ED7027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45654-EB72-4F84-BDC0-70D3ED1F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8F5EB-AD53-4B3A-AAF2-97CACC9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A7424-B9A0-4609-852B-A646B3F5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25B8D-8FDE-4C9E-BD9F-64205047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A0BFD-A89F-4506-BB95-24708494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2DF24-5902-40D9-8D2E-92AEBD50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7B48A-955B-4A9C-9905-E1FA1183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8E83C-AA0F-4719-AF65-EE9D7E9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ABD01-8E2F-45D9-84DA-EBACD29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16DE5-56E1-4FD3-86E8-C1CD2AC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5C2-B8DE-44C0-9880-880DA57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9A2DE-D32B-4737-B268-1AEA658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A7494-B520-425F-B5FA-8ED38F9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0997D-D30B-409A-9AA4-B640856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32FFC-2CE0-4ED8-8BAF-5747D188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8ED8D-0825-4D54-9966-81A4A243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A1C-41DB-41F5-8D1C-63C2CF7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135-B1E6-4BE6-8402-F0B0B7D5DA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4FA-94F3-4CC3-8CE8-9A2C37D8A8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62B-DBD8-4CCF-96C2-BB016D2CC4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9e5d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9e5d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D43A-1F9D-4712-880F-9DD11018EF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1D2E-C2D4-407D-8022-2FCEE83B12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37F-FC4E-4E51-A6D5-4FA3E94E66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760-5D0E-44C5-B470-C6D8D57D16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atherinemcooper.wikispaces.com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entury Schoolbook"/>
              </a:rPr>
              <a:t>RULES AND PROCEDURES</a:t>
            </a:r>
            <a:endParaRPr b="0" lang="en-US" sz="5900" spc="-1" strike="noStrike">
              <a:solidFill>
                <a:srgbClr val="696464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886200" cy="37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entury Schoolbook"/>
              </a:rPr>
              <a:t>TURNING IN </a:t>
            </a:r>
            <a:r>
              <a:rPr b="1" lang="en-US" sz="3600" spc="-1" strike="noStrike">
                <a:solidFill>
                  <a:srgbClr val="696464"/>
                </a:solidFill>
                <a:latin typeface="Century Schoolbook"/>
              </a:rPr>
              <a:t>LATE ASSIGNMENTS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You will not receive full credi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You will only receive 50% of full credit, and will only be accepted 2 days after the due dat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  <p:sndAc>
      <p:stSnd>
        <p:snd r:embed="rId1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TARDINES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efined as not being in your assigned seat when the bell ring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you are tardy to class without a pass you will receive 1 day of after school detentio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 goes home to notify parent / guardian of detentio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  <p:sndAc>
      <p:stSnd>
        <p:snd r:embed="rId1" name="explod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BEFORE THE BELL RING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MUST BE IN YOUR SEA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ave your pencil sharpened, because you will not interrupt the class to sharpen your pencil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ke sure you have the right materials needed to participate, because you will not be allowed to go to your locked except during designated time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bey ALL rules in the County and School Handbook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Enter the classroom quietly with all needed materials, and be prepared for class before the bell rings. Your socializing is done in the hallways. The classroom is for learnin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lways bring ALL required materials to class. I will NOT let you out because you forgot somethin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 eating in clas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how respect and courtesy for the instructor, yourself, fellow classmates, and the classroo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ttend all personal needs before class. Do NOT groom yourself in clas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teacher dismisses the class, NOT the bell. If you all are in your seats and quiet when the bell rings, you will get to leave faster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  <p:sndAc>
      <p:stSnd>
        <p:snd r:embed="rId1" name="hamm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 student caught cheating (aiding in or copying: homework, class work, quizzes, tests, etc.) will receive a 0 and will result in immediate disciplinary actio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ink before you speak or act. Is it a good choice? Your opinion IS valuable, BUT there is a time to be expressiv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  <p:sndAc>
      <p:stSnd>
        <p:snd r:embed="rId1" name="hamm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.S. If I see a cell phone or any other electronic device at all, I WILL confiscate it immediatel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285840" y="3432240"/>
            <a:ext cx="4457520" cy="6065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743360" y="3425760"/>
            <a:ext cx="3711600" cy="689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END OF CLAS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CLEAN UP ANY MES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, and put items back in plac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THE BELL DOES NOT DISMISS YOU !!!!!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I will let you go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61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ENTERING THE CLASSROOM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ONCE YOU HAVE ENTERED YOU MAY NOT LEAVE.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 come prepared with material required for class. You will not be able to leave to go to lockers, at any point during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Find your seat QUIETLY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nd begin to work on the warm-up, which will be checked periodicall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BATHROOM PASS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6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Every student will receive a bathroom pass. Each pass will allow you to go to the bathroom 5 times for the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nd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quarters of semester 2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You will receive another pass for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nd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quarters, of semester 2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you do not use any of your passes you will receive extra credit, to final grad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EXPECTATIO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e in your seat and ready to work when the bell rings – you will be considered tardy otherwi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ring all materials to class every day. BE PREPARED TO LEAR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Follow directions the first time they are give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EXPECTATIO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at your self, fellow students, and Mrs. Cooper with respec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Use proper language in the classroo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assroom disruptions are not accepted, remember there are consequence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ut forth your best effor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ONSEQUENC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Warning – this may include a change in seat and student conferenc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After School detention and Parent contact/conferenc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Referral to administrator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over dir="l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MAKE UP WORK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If your are absent from class you are required to check the absent box in your file for any missed work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This is to be done in the first 5 minutes of class. 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You may also check my website at </a:t>
            </a:r>
            <a:r>
              <a:rPr b="0" lang="en-US" sz="3400" spc="-1" strike="noStrike" u="sng">
                <a:solidFill>
                  <a:srgbClr val="cc9900"/>
                </a:solidFill>
                <a:uFillTx/>
                <a:latin typeface="Century Schoolbook"/>
                <a:hlinkClick r:id="rId1"/>
              </a:rPr>
              <a:t>http://katherinemcooper.wikispaces.com/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MAKE UP WORK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Missed test / quiz will be made up before or after school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Students with excused absence will be allowed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3 days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to make up any missed work for full credit.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ke sure to write “absent” on your paper, so I do not count it as late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TURNING IN ASSIGNMENT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ke sure your name and period are on the assignment, or you will not get a grad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ssignments will be turned in at the beginning of class. Once I have collected all work, any work turned in afterward will be considered lat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3:28:05Z</dcterms:created>
  <dc:creator>Valued Acer Customer</dc:creator>
  <dc:description/>
  <dc:language>en-US</dc:language>
  <cp:lastModifiedBy>Technology</cp:lastModifiedBy>
  <dcterms:modified xsi:type="dcterms:W3CDTF">2012-01-23T03:10:44Z</dcterms:modified>
  <cp:revision>25</cp:revision>
  <dc:subject/>
  <dc:title>Rules and Proced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336811</vt:lpwstr>
  </property>
</Properties>
</file>